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880896"/>
        <c:axId val="17939245"/>
      </c:barChart>
      <c:catAx>
        <c:axId val="998808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939245"/>
        <c:crosses val="autoZero"/>
        <c:auto val="1"/>
        <c:lblAlgn val="ctr"/>
        <c:lblOffset val="100"/>
        <c:noMultiLvlLbl val="0"/>
      </c:catAx>
      <c:valAx>
        <c:axId val="179392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8808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2649-979D-4E8F-AE4C-7F443F406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60F3-1BA4-4EDB-BB04-E25EC759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70AE-B488-4996-B2F2-BFB179D3A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A067-9589-4518-B85F-93C328712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8A3B-0565-4C66-AF66-BF8CC017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48C3-F18A-4706-B90A-F3EB6312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FFA2-FA52-4AAA-B016-8721A864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F801-3D10-4F26-B7F7-95C86F84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B7BC-D1C8-4249-BD10-3B8AA931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722A-331C-4CFD-8B66-D0806982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9BCD-D8D9-464C-B740-72860B1C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1F81-56F8-4B15-A321-4DE5F765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286445-AA19-46E9-BE40-F1531E79EC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