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77586"/>
        <c:axId val="24279423"/>
      </c:barChart>
      <c:catAx>
        <c:axId val="17777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9423"/>
        <c:crosses val="autoZero"/>
        <c:auto val="1"/>
        <c:lblAlgn val="ctr"/>
        <c:lblOffset val="100"/>
        <c:noMultiLvlLbl val="0"/>
      </c:catAx>
      <c:valAx>
        <c:axId val="24279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77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FC3-A576-4B69-B349-614E6B35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E6F-AE70-45A5-B5FF-19390C92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083-712C-43D8-8BE6-FABCE293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D6-E272-4B5E-943B-2452DD46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9CC-5454-431F-A3C0-1AF9404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565-BF14-4F30-8C20-9F61AE89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FAF-ADEE-4018-A500-5C2B5345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059-C223-4B75-B5E2-E12D3116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EE5-7C67-46E6-A319-988C2D3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359-576A-467C-83C4-637B0CA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237-34D0-4DCF-A5DB-082AAAD0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152-4B7A-4A1F-9B54-0BBFC2E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FCA03-75B6-471D-9513-FD122817D4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