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89143"/>
        <c:axId val="17599661"/>
      </c:barChart>
      <c:catAx>
        <c:axId val="38089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99661"/>
        <c:crosses val="autoZero"/>
        <c:auto val="1"/>
        <c:lblAlgn val="ctr"/>
        <c:lblOffset val="100"/>
        <c:noMultiLvlLbl val="0"/>
      </c:catAx>
      <c:valAx>
        <c:axId val="17599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89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996-B621-406A-B27D-A29059DD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857-7BB1-4D7C-9736-F65121F4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30D-AE42-4216-8C36-325A7B94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235-4C2D-4F22-8A52-9122781B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9DD-5360-4DB7-B949-03E0E6EE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63C-3378-4B0F-B96D-4D7CD16A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03E-673E-472B-B300-DA02A40E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3A3-48CF-4A04-BF04-38A07E9B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E96-3AC0-4314-AECB-87B485C1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D1E-FD6B-40E9-89AC-2B758E2C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7154-877C-4E72-B170-653E43B9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CDC-B9C7-4E7F-A1EA-3993CCB9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1FC4A-8674-4CCA-9573-F7EAEB6D53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