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7097"/>
        <c:axId val="13785453"/>
      </c:barChart>
      <c:catAx>
        <c:axId val="20397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5453"/>
        <c:crosses val="autoZero"/>
        <c:auto val="1"/>
        <c:lblAlgn val="ctr"/>
        <c:lblOffset val="100"/>
        <c:noMultiLvlLbl val="0"/>
      </c:catAx>
      <c:valAx>
        <c:axId val="13785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7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E48-40A1-49E7-92B8-1BC7267F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A1C-3063-418B-8437-7225708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AE4-861F-4487-B242-A6803AC6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EB2-1FF0-4095-B179-F4303603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300-EA62-41D0-A2A5-875013E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677-A557-4CB9-A0A0-EA4EB81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215-6E4B-4D1C-B767-95346E6A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B9F-0FA9-4078-A93B-D4E0E507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05C-CA77-40A0-AD61-B9A935F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1BF-DA8F-455F-8D6C-7825538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C5A-D975-4B97-B0FF-2C79662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22E-D24F-4747-8C15-C3FE094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23FE-3A6D-43E1-B771-9361DEC74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