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03322"/>
        <c:axId val="93121461"/>
      </c:barChart>
      <c:catAx>
        <c:axId val="20403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21461"/>
        <c:crosses val="autoZero"/>
        <c:auto val="1"/>
        <c:lblAlgn val="ctr"/>
        <c:lblOffset val="100"/>
        <c:noMultiLvlLbl val="0"/>
      </c:catAx>
      <c:valAx>
        <c:axId val="93121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03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38F-6EDA-421D-A98E-346DDBD8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8BE-2D79-4AB5-9C07-8A00809C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B3D-F703-4CB9-969F-63A75CE4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5B0-EEC1-4486-A2B5-0989D1A8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235-6881-4C42-BDA2-A8539285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414-A15B-46C5-A047-93E05534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AAA-C850-4158-B1D3-D5692D3E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4E5-6436-456E-A3E9-0E3BEEF4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266-F442-4C19-A33E-8F8A87F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C5F-5179-4881-BE3C-A9B29A1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98C-54BC-4903-A183-EBD2EC1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052-9DEC-4E64-A8BB-2A1C16B1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F3DBB-35E4-47B0-88A0-6E3BDF5F06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