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93911"/>
        <c:axId val="93540090"/>
      </c:barChart>
      <c:catAx>
        <c:axId val="41193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0090"/>
        <c:crosses val="autoZero"/>
        <c:auto val="1"/>
        <c:lblAlgn val="ctr"/>
        <c:lblOffset val="100"/>
        <c:noMultiLvlLbl val="0"/>
      </c:catAx>
      <c:valAx>
        <c:axId val="93540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93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C8D-8ABB-451F-9482-183F8E55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E4C-946B-4F9C-A4C5-57166BD4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FFC-8F98-4915-AFA3-EAE5514F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A2A-CDEE-46AA-81A8-C8C4812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E0F-21D9-4F95-88C5-B9D4BC5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32F-5F84-4608-98CB-6CF260D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F83-94A5-4930-B56D-A2D080A2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C7E-0674-4A5F-BDAE-CB34E6CE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B74-5B11-46FE-B35E-17A5FE4A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4A8-027A-45E1-8541-D2CE6C3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AAA-D32A-4CF5-BE0D-EF48EB8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366-C7FE-4EE4-85C3-4B144C3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8E75C-F6A0-4AF4-9D74-12DDF4F28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