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320890"/>
        <c:axId val="53826914"/>
      </c:barChart>
      <c:catAx>
        <c:axId val="4932089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26914"/>
        <c:crosses val="autoZero"/>
        <c:auto val="1"/>
        <c:lblAlgn val="ctr"/>
        <c:lblOffset val="100"/>
        <c:noMultiLvlLbl val="0"/>
      </c:catAx>
      <c:valAx>
        <c:axId val="538269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32089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CA8-695F-4885-A36A-C5DF2F2AA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EED4-DA85-4473-A3C6-132C91921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813-F333-4376-B515-666B3CA9B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AB4B-B1A0-4814-A7D8-0F01F7234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F63-8CB7-4CA6-A788-04A4AD86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70B-BC63-4D52-80B3-77323DEE7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A634-B552-4147-B576-EA50EDFD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286-945F-4747-A0A6-93F58CEE8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A758-51E4-4C12-BE08-2A7B7E63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CD73-B89D-4C4F-8DAD-4D6AF164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F1F2-DA11-408E-BBB7-A91A6AA6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7F63-82DD-4499-89CA-9673E0DF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62C79-5AE3-4797-9B39-461DC7A5F4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