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39883"/>
        <c:axId val="3590678"/>
      </c:barChart>
      <c:catAx>
        <c:axId val="27939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678"/>
        <c:crosses val="autoZero"/>
        <c:auto val="1"/>
        <c:lblAlgn val="ctr"/>
        <c:lblOffset val="100"/>
        <c:noMultiLvlLbl val="0"/>
      </c:catAx>
      <c:valAx>
        <c:axId val="3590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39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BE1-4C89-44C2-A70D-19A87D6C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B29-B022-4A8C-BCF5-228C2031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797-29A0-4DEF-9D39-063910C9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AB0-55B7-4EF9-86EF-E87EC762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546-B77D-4A8B-9D2E-AA359D0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835-2946-4D3A-8EA2-6A61C33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54A-1793-49CB-ADD0-EAFD9A3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9D4-AFE7-4A3A-AB26-A360FF5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D94-9FC3-4866-A80E-597B641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F92-A131-4A4E-AB6E-77C3173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4A5-D2E6-49EE-B425-9777DE3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503-0F8B-415E-A38B-EB38B32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69DC-EF0F-47DD-B19D-C6D0DD9DC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