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71516"/>
        <c:axId val="98323637"/>
      </c:barChart>
      <c:catAx>
        <c:axId val="13371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23637"/>
        <c:crosses val="autoZero"/>
        <c:auto val="1"/>
        <c:lblAlgn val="ctr"/>
        <c:lblOffset val="100"/>
        <c:noMultiLvlLbl val="0"/>
      </c:catAx>
      <c:valAx>
        <c:axId val="98323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71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879-974C-4727-A796-08D9A7CA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C72-DF00-47C2-B58C-428B21CF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EE5-3809-4607-A22B-25BDC62E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7FF-7CC5-47F8-96BA-453120CE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0EE-25BE-49B8-ACE4-C0D71C04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095-3779-4BAA-9B2F-FCAB6382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6C2-5C96-4356-A0A6-8E8EF962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DD2-BD8E-48B9-B049-C0ABA313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842-7C09-4EFF-A73D-D8AB91C4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A92-9B2D-46A8-8510-81447ABF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E96-0920-486E-8854-449249FC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CCA7-F4DF-49DE-8D11-A305E9AC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BC292-0AC2-409B-A0FB-67C9643FF4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